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24D-553C-484E-9FB5-6D894785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61F-B21A-4BB8-8F49-25B46734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E2B-4798-4CC7-B58B-5AF18421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137-2ACB-432D-BFA8-543C38D7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DE8A-C027-45CC-8734-7250DCBB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E5A0-49FE-4A17-A460-541D6D9C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7691-98E0-49B6-81B6-702C5B47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AB99-977E-4B25-AC7A-3BD9B44F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EC88-A475-4B3B-A5B3-3F176A79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FBCF-1E3A-43EF-A2A4-66C2BC63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959D-9688-4421-B9F7-D67A6159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EAE-1176-4118-A91D-9958448B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9199-71C4-4FA1-AC8F-FB44FD89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1E9A-DD81-40DD-A1B5-40E3CB1F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F0FE-F2D1-41A0-A650-4553E56B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5309-A1F7-4AFD-A98F-82688FCF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4EAD-C9CC-4A5E-8E18-ED8A188F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78E6D-C6E0-4011-BBA3-27CAFA87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6206-CD14-49EC-BFF5-B7224FA6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EA9DC-D64D-44C3-9919-A05BD480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C3BC1-40F9-409B-93AD-D50D0289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8B586-EDE3-4C47-B2DC-B210B136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F77-CD20-45DB-97D7-9351FAE2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02A6E-D4E1-49F3-BBEB-35DFC603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ADAA6-B68B-4700-8457-C7EA6658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F05B0-F124-4301-A93C-85E572D5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34846-1A71-4247-A2AE-C1BDB637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C788B-7D1F-4FD7-8522-575A86F6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CA763-9B4A-4479-9C71-91D1B002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15CA9-6321-426F-BCC0-F0C61054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124A1-79F7-489F-81C8-40C3DE3A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71986-C055-416B-9B72-2BF2DC1B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ADE45-7FEB-4334-BCD9-ADB9540A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236-7EF5-4D61-870F-8D5D0F56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3CC5D-B0FD-46B0-A23A-E39A90D1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9C984-D8A6-40B8-9FDB-63F6AF70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952F9-8BD3-43B8-8296-A21753BE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B8BBB-7081-429C-B7CE-A3E7B819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06E56-BB34-41A1-B896-722428B5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CC520-297A-4E46-BDE9-D15BCF69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053EB-98C7-4595-9883-C62A8A24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51A67-3A4C-4AC9-90F6-7A0C1173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D230D-D0F7-4436-83F7-E3C9236B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DBA05-787B-4C54-BDC9-AAE2909D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DA0-FA6C-4CBE-AFA0-6EC6BF8A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F031B-206A-4AFA-817C-A1B9BBA8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B8C94-529F-4776-BBEA-931D5F90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0A855-BD23-40FE-870C-A2A1221B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7B70D-ECF2-44C0-A666-1E127584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E329A-65B4-43D9-96E0-15555E63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60D7B-3FC0-4421-8514-B76C9852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358EC-566B-42DD-B109-0F78989E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C82AD-5A3D-4B04-9358-8C972340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693AE-DCCD-4DF9-B1CF-0AB3CAB7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C0914-7280-4EEB-8B31-381579A9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B59-7BB4-4F47-996B-20015669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E69AA-3165-41D3-A573-A4FBD6C0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ECAD8-61EA-4401-AA24-9CF5B16D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7F3A0-72FB-43B7-8FBB-7607C60A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234C5-0FEF-4364-BA07-660D145B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D034B-C04F-42A3-9C73-FD7B526A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3DA90-B190-4D32-A764-61E38ADD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66D94-660A-423E-BF16-BCC90B90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D9492-6B6D-4A6F-AFC2-13B01B4A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58414-8030-4855-95D4-80D22017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7281A-052C-42D7-8AFF-7D8EAD25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D78-21B4-49C0-902A-90AC4B27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67A5A-4BE7-4F9E-B04D-81D1A5D8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FBD97-D6D5-4032-9F51-AD2FB30A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2192A-9EE6-4E74-9B6C-7216BD6F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3DE-7248-4430-8D41-BAEFD7CC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C8C1-0D61-472E-A905-1BC542EA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1DFC-4FE4-4487-A5DC-5E137FF4CE5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2124-884C-41DC-907F-5B8591E7BD6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4151-71A4-4D98-8CE6-171A88A4109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0CD7-2881-4F5E-9815-0D23822BA9A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9573-2926-440F-B1F6-B365484D2CC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E907-A7A0-4DF1-AC76-3B5CE429268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6" descr="rs-lgflag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10280"/>
          </a:xfrm>
          <a:prstGeom prst="rect">
            <a:avLst/>
          </a:prstGeom>
          <a:ln w="0">
            <a:noFill/>
          </a:ln>
        </p:spPr>
      </p:pic>
      <p:pic>
        <p:nvPicPr>
          <p:cNvPr id="255" name="Rectangle 2" descr=""/>
          <p:cNvPicPr/>
          <p:nvPr/>
        </p:nvPicPr>
        <p:blipFill>
          <a:blip r:embed="rId2"/>
          <a:stretch/>
        </p:blipFill>
        <p:spPr>
          <a:xfrm>
            <a:off x="755640" y="396720"/>
            <a:ext cx="8126280" cy="1614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5238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Yaseen A. and Charlie 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8" descr="image018"/>
          <p:cNvPicPr/>
          <p:nvPr/>
        </p:nvPicPr>
        <p:blipFill>
          <a:blip r:embed="rId3"/>
          <a:stretch/>
        </p:blipFill>
        <p:spPr>
          <a:xfrm>
            <a:off x="2286000" y="2362320"/>
            <a:ext cx="44956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2030401680043608162HikxJw_fs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undra Clim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Found In Northern Russ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orders Arctic Oce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uropean Russia’s Clim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rmer Temperatures than Asian Russ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umid Continental Clim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at’s All For Now!!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4" name="Picture 6" descr="C:\Users\Yaseen(Admin)\AppData\Local\Microsoft\Windows\Temporary Internet Files\Content.IE5\TEIWRE2J\MC900116362[1].wmf"/>
          <p:cNvPicPr/>
          <p:nvPr/>
        </p:nvPicPr>
        <p:blipFill>
          <a:blip r:embed="rId1"/>
          <a:stretch/>
        </p:blipFill>
        <p:spPr>
          <a:xfrm>
            <a:off x="1219320" y="2286000"/>
            <a:ext cx="6095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 Case You Didn’t Know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SSI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LD!!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9" descr="200490"/>
          <p:cNvPicPr/>
          <p:nvPr/>
        </p:nvPicPr>
        <p:blipFill>
          <a:blip r:embed="rId1"/>
          <a:stretch/>
        </p:blipFill>
        <p:spPr>
          <a:xfrm>
            <a:off x="3124080" y="205740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Goods of Russia’s Climate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reat Tactic for War!!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lentiful Rain for Abundant Cro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n Attract Ski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woohoo"/>
          <p:cNvPicPr/>
          <p:nvPr/>
        </p:nvPicPr>
        <p:blipFill>
          <a:blip r:embed="rId1"/>
          <a:stretch/>
        </p:blipFill>
        <p:spPr>
          <a:xfrm>
            <a:off x="4648320" y="1447920"/>
            <a:ext cx="3581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Bads of Russia’s Clim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a lot of tourists!!!! (Due to cold weath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lot of Dry Years, with less rain fall so wheat crops fai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51051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y It’s Cold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38080" y="236196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e to Russia’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thern Loc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ssia is COL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6" descr="aptopix-russia-snow-storm-2009-12-29-19-41-41"/>
          <p:cNvPicPr/>
          <p:nvPr/>
        </p:nvPicPr>
        <p:blipFill>
          <a:blip r:embed="rId1"/>
          <a:stretch/>
        </p:blipFill>
        <p:spPr>
          <a:xfrm>
            <a:off x="5105520" y="1905120"/>
            <a:ext cx="292716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ypes of Clim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133360" y="1523880"/>
            <a:ext cx="510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arctic Clim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752480" y="2286000"/>
            <a:ext cx="49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133720" y="21337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id Contin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828800" y="2743200"/>
            <a:ext cx="5638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057400" y="28954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2133720" y="28195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2133720" y="3505320"/>
            <a:ext cx="533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2133720" y="3581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subarctic-climate-z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ubarctic Clim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st Common Climate By F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vers Most of Russia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mely the East and Southea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so Surrounds the Sea of Okhot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umid Continental Clim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nd on Western Russia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d is the only climate for European Russ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5" descr="wisconsin_river"/>
          <p:cNvPicPr/>
          <p:nvPr/>
        </p:nvPicPr>
        <p:blipFill>
          <a:blip r:embed="rId1"/>
          <a:stretch/>
        </p:blipFill>
        <p:spPr>
          <a:xfrm>
            <a:off x="4724280" y="20574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7" descr="91641653onXuNC_f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eppe Clim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Great Steppe— Found in Southwestern Russ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so Found In Areas Near The Black Se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1:56:58Z</dcterms:created>
  <dc:creator>QPS</dc:creator>
  <dc:description/>
  <dc:language>en-US</dc:language>
  <cp:lastModifiedBy>Yaseen(Admin)</cp:lastModifiedBy>
  <dcterms:modified xsi:type="dcterms:W3CDTF">2010-12-21T02:52:37Z</dcterms:modified>
  <cp:revision>11</cp:revision>
  <dc:subject/>
  <dc:title>Russia’s Climate</dc:title>
</cp:coreProperties>
</file>